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CA0-2A31-4F60-889E-24DC7E34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B8E-5F81-4093-BD57-F816AC49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8FE-06B9-46D6-A0CD-10209451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CBD-589D-449F-8E4F-841AE339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4F732-AFAF-45A8-AF62-F5378BD7B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B5802-2E90-4302-92B3-AC5F17DCCC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AF230-AC25-49AC-A06C-0131CF57EB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495AC-7477-47BB-92D5-99F5266039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0997B-3914-4DAA-AD7C-0137ABEAE0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0FA9E-577E-45F2-9B52-9BC3088657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A75BF-1031-4D5B-B567-C739DA139D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D6A-527F-4B73-80C4-A5173345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5E834-D9C7-481F-8BE2-0EF3CA15B6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ABF8A-21C3-4738-8771-B3BED55660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97B6A-217D-4DFD-80F5-345EAF1811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5849D-4684-4B8E-85ED-EFCC15C4EC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56C17-9F8D-4E77-AD17-A43A17F521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697E2-045D-4CDD-A540-D7E81EC35D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8D293-C8CE-4E97-80F6-EDE828AF5A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8D383-101A-4E56-9DFE-D5F1D0889E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C0C52-E715-46F1-BD70-0EEEE7C2D6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B3B7E-DC41-4C99-99F4-1AFEC7834E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74C-BA82-4D99-B213-60D6159F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D9C35-2201-4A40-83B3-C3DF469C29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3A175-BB43-4156-8AF5-B4A637400B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E04B0-168E-4FFC-9C54-244887C745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ED51D-FB83-43DC-8618-68B31E42E9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B6A37-C281-4213-A6ED-F32E1854FD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D0D0D-FCED-441A-8E1B-A2023E91AF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A1B56-080E-4412-8520-0D9A25F09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7A5-F9C9-4A00-BCDD-53FD2FF8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576-0830-4C58-B2CF-F71FD73D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416-CC0A-4120-B89C-15FBCAB6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943-75D2-4787-BD1A-8EBF5DEB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431-9013-4C57-B236-E5AF718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E6F-0E5C-4E79-B541-30CCA78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36E5-12E2-4F39-B744-DC4EC1003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7098840" y="6563880"/>
            <a:ext cx="2311560" cy="1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8CEF-D083-41A4-A2F5-B36EBB5B1DC7}" type="slidenum">
              <a:rPr b="0" lang="cs-CZ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85560" y="880920"/>
            <a:ext cx="8335800" cy="52452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marL="419040" indent="-419040">
              <a:spcBef>
                <a:spcPts val="55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420840">
              <a:spcBef>
                <a:spcPts val="55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92440" indent="-420840">
              <a:spcBef>
                <a:spcPts val="55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47840" indent="-419040">
              <a:spcBef>
                <a:spcPts val="55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47840" indent="-4190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47840" indent="-4190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3086280" y="228240"/>
            <a:ext cx="6535440" cy="3920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760" y="228240"/>
            <a:ext cx="64008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5"/>
          </p:nvPr>
        </p:nvSpPr>
        <p:spPr>
          <a:xfrm>
            <a:off x="7098840" y="6563880"/>
            <a:ext cx="2311560" cy="1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6219-E2DF-4068-BBDD-CD3286B1721A}" type="slidenum">
              <a:rPr b="0" lang="cs-CZ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97320" cy="594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13600" y="533520"/>
            <a:ext cx="1511280" cy="1320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08160" y="2060640"/>
            <a:ext cx="662652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7692"/>
                </a:solidFill>
                <a:latin typeface="Arial"/>
              </a:rPr>
              <a:t>NZZ: Reforma je výsledkem spoluprá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Miroslav Procház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7692"/>
                </a:solidFill>
                <a:latin typeface="Arial"/>
              </a:rPr>
              <a:t>miroslav.prochazka</a:t>
            </a:r>
            <a:r>
              <a:rPr b="0" lang="en-US" sz="2800" spc="-1" strike="noStrike">
                <a:solidFill>
                  <a:srgbClr val="147692"/>
                </a:solidFill>
                <a:latin typeface="Arial"/>
              </a:rPr>
              <a:t>@</a:t>
            </a:r>
            <a:r>
              <a:rPr b="0" lang="cs-CZ" sz="2800" spc="-1" strike="noStrike">
                <a:solidFill>
                  <a:srgbClr val="147692"/>
                </a:solidFill>
                <a:latin typeface="Arial"/>
              </a:rPr>
              <a:t>nuov</a:t>
            </a:r>
            <a:r>
              <a:rPr b="0" lang="en-US" sz="2800" spc="-1" strike="noStrike">
                <a:solidFill>
                  <a:srgbClr val="147692"/>
                </a:solidFill>
                <a:latin typeface="Arial"/>
              </a:rPr>
              <a:t>.c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6515280"/>
            <a:ext cx="9906120" cy="34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60520" y="6521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ha 8/12/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9240" y="479736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7692"/>
                </a:solidFill>
                <a:latin typeface="Arial"/>
              </a:rPr>
              <a:t>Konference Nová závěrečná zkouška – kvalita pro učňovské školstv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515280"/>
            <a:ext cx="9906120" cy="34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0680" y="380880"/>
            <a:ext cx="1719000" cy="739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4520" y="260280"/>
            <a:ext cx="5745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7692"/>
                </a:solidFill>
                <a:latin typeface="Arial"/>
              </a:rPr>
              <a:t>Proč, j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6160" y="2133720"/>
            <a:ext cx="87138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Standardizace výstup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Kva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Spolupráce s aktéry (školy a zaměstnavatel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Výsledek: široce akceptova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515280"/>
            <a:ext cx="9906120" cy="342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0680" y="380880"/>
            <a:ext cx="1719000" cy="739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92520" y="260280"/>
            <a:ext cx="6897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7692"/>
                </a:solidFill>
                <a:latin typeface="Arial"/>
              </a:rPr>
              <a:t>Mezinárodní souvislos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0160" y="1484280"/>
            <a:ext cx="9505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Aktivita OECD „Learning for Jobs“ (VET Revie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Závěry Rady a zástupců vlád členských států o prioritách posílené evropské spolupráce v oblasti odborného vzdělávání 2011 - 20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Společné rys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Posilování spolupráce se sociálními partn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Kva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Atraktivnější odborné vzdělá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Transparent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6515280"/>
            <a:ext cx="9906120" cy="342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90680" y="380880"/>
            <a:ext cx="1719000" cy="739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92520" y="260280"/>
            <a:ext cx="6897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7692"/>
                </a:solidFill>
                <a:latin typeface="Arial"/>
              </a:rPr>
              <a:t>Vládní prohláše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0160" y="1557360"/>
            <a:ext cx="9505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Vláda ve spolupráci se zaměstnavateli podpoří rozvoj odborného středního („učňovského“) vzdělávání a </a:t>
            </a:r>
            <a:r>
              <a:rPr b="1" lang="cs-CZ" sz="3600" spc="-1" strike="noStrike" u="sng">
                <a:solidFill>
                  <a:srgbClr val="147692"/>
                </a:solidFill>
                <a:uFillTx/>
                <a:latin typeface="Arial"/>
              </a:rPr>
              <a:t>formu jeho zakončování jednotnou závěrečnou zkouškou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. Zvýší důraz na praktickou uplatnitelnost absolventů a na posílení prestiže středního odborného školství. Vláda přijme program podpory technického školství pro zajištění a rozvoj kvalitní obslužné a řídící struktury technických odvětv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6515280"/>
            <a:ext cx="9906120" cy="34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90680" y="380880"/>
            <a:ext cx="1719000" cy="739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92520" y="260280"/>
            <a:ext cx="6897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7692"/>
                </a:solidFill>
                <a:latin typeface="Arial"/>
              </a:rPr>
              <a:t>Dlouhodobý záměr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B.4 Reforma závěrečné zkouš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Cíl: Dokončit reformu závěrečné zkoušky a zavést do systému odborného vzdělávání do r. 201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pilotně ověřovat pro obory kategori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pokračovat v ověřování plošné realizace ve všech školách s obory kategori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dále rozvíjet participaci odborníků z pr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7692"/>
                </a:solidFill>
                <a:latin typeface="Arial"/>
              </a:rPr>
              <a:t>zvážit legislativní úpr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97320" cy="59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13600" y="533520"/>
            <a:ext cx="1511280" cy="1320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08160" y="2060640"/>
            <a:ext cx="662652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7692"/>
                </a:solidFill>
                <a:latin typeface="Arial"/>
              </a:rPr>
              <a:t>NZZ: Reforma je výsledkem spoluprá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7692"/>
                </a:solidFill>
                <a:latin typeface="Arial"/>
              </a:rPr>
              <a:t>Miroslav Procház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7692"/>
                </a:solidFill>
                <a:latin typeface="Arial"/>
              </a:rPr>
              <a:t>miroslav.prochazka</a:t>
            </a:r>
            <a:r>
              <a:rPr b="0" lang="en-US" sz="2800" spc="-1" strike="noStrike">
                <a:solidFill>
                  <a:srgbClr val="147692"/>
                </a:solidFill>
                <a:latin typeface="Arial"/>
              </a:rPr>
              <a:t>@</a:t>
            </a:r>
            <a:r>
              <a:rPr b="0" lang="cs-CZ" sz="2800" spc="-1" strike="noStrike">
                <a:solidFill>
                  <a:srgbClr val="147692"/>
                </a:solidFill>
                <a:latin typeface="Arial"/>
              </a:rPr>
              <a:t>nuov</a:t>
            </a:r>
            <a:r>
              <a:rPr b="0" lang="en-US" sz="2800" spc="-1" strike="noStrike">
                <a:solidFill>
                  <a:srgbClr val="147692"/>
                </a:solidFill>
                <a:latin typeface="Arial"/>
              </a:rPr>
              <a:t>.c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6515280"/>
            <a:ext cx="9906120" cy="342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0520" y="6521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ha 8/12/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9240" y="479736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7692"/>
                </a:solidFill>
                <a:latin typeface="Arial"/>
              </a:rPr>
              <a:t>Konference Nová závěrečná zkouška – kvalita pro učňovské školstv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44880" y="1844640"/>
            <a:ext cx="7559640" cy="4608720"/>
          </a:xfrm>
          <a:prstGeom prst="wedgeRectCallout">
            <a:avLst>
              <a:gd name="adj1" fmla="val -36055"/>
              <a:gd name="adj2" fmla="val 3425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Díky za pozorno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49:48Z</dcterms:created>
  <dc:creator>James Bond</dc:creator>
  <dc:description/>
  <dc:language>en-US</dc:language>
  <cp:lastModifiedBy>prochazka</cp:lastModifiedBy>
  <dcterms:modified xsi:type="dcterms:W3CDTF">2010-12-06T14:30:50Z</dcterms:modified>
  <cp:revision>142</cp:revision>
  <dc:subject/>
  <dc:title>PowerPoint Presentation</dc:title>
</cp:coreProperties>
</file>