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7425-577A-432F-9349-A5B508373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8999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87080" y="3992400"/>
            <a:ext cx="8999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0B8B-508D-47E8-BD55-49165E05E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87080" y="399240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98680" y="399240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1A65-661C-4D1E-8BF4-CE1093C9D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0160" y="97164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72880" y="97164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87080" y="399240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30160" y="399240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472880" y="399240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9F22-E82B-447C-910F-710837711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D9ED-45E5-440A-95F0-B0BF66CBE3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87080" y="971640"/>
            <a:ext cx="89996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602A-0F30-4DA8-8902-555EFF56CE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8999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3BB1-0DE3-4827-A678-E3640DEFEB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0D44-33F0-4150-B745-EA3D96B123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534E-531A-47F3-9622-28533B2C6E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330360" y="252360"/>
            <a:ext cx="705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003A-6A23-4B48-905B-52631E88BE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87080" y="399240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CE70-290C-4964-B370-AE1DF740D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87080" y="971640"/>
            <a:ext cx="89996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848E-4D21-46ED-93B0-A4AA1E739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98680" y="399240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33CE-EF22-45DE-9449-1607851FAC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87080" y="3992400"/>
            <a:ext cx="8999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EE6C-5D26-4F2D-82EE-D927E97ACC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8999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87080" y="3992400"/>
            <a:ext cx="8999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A322-BF57-43A1-A994-43657ECEFF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87080" y="399240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998680" y="399240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2670-A405-44A2-BCC4-AED56790B8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0160" y="97164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72880" y="97164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87080" y="399240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430160" y="399240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472880" y="3992400"/>
            <a:ext cx="2897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71F7-0B3C-4818-85E6-A71AD1123F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8999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FE27-1B78-4812-8510-E32BF8165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F8BF-3D83-4FC2-8040-CE2FD5171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FEB7-DD4F-4DCA-B3AC-093CE112B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30360" y="252360"/>
            <a:ext cx="705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1D1B-9761-4575-A536-1B7F51A8B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87080" y="399240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A3C7-5B47-4F9E-B3FF-5A622A43F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98680" y="399240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52C1-D6CE-4197-8B3B-1F8D7076F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870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98680" y="971640"/>
            <a:ext cx="4391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87080" y="3992400"/>
            <a:ext cx="8999640" cy="275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B0BA-7F01-4CA7-A3A6-A12EA9E1D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62960" y="7237080"/>
            <a:ext cx="2495520" cy="173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2EA0-C5C4-4265-96AF-0F9B590A6D84}" type="slidenum"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87080" y="971640"/>
            <a:ext cx="8999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45720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52600" indent="-45720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51200" indent="-45720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48000" indent="-45720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4480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4480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387080" y="971640"/>
            <a:ext cx="89996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45720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52600" indent="-45720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51200" indent="-45720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48000" indent="-457200">
              <a:spcBef>
                <a:spcPts val="6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4480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4480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662960" y="7237080"/>
            <a:ext cx="2495520" cy="173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1972-FB95-48F2-B636-80D5591620BE}" type="slidenum"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omana.jezberova@nuov.cz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3800" y="252360"/>
            <a:ext cx="6910200" cy="432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oncepce nové závěrečné zkoušky 20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53640" y="1908000"/>
            <a:ext cx="9433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800" spc="-1" strike="noStrike">
                <a:solidFill>
                  <a:srgbClr val="0070c0"/>
                </a:solidFill>
                <a:latin typeface="Arial"/>
              </a:rPr>
              <a:t>KONCEP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800" spc="-1" strike="noStrike">
                <a:solidFill>
                  <a:srgbClr val="0070c0"/>
                </a:solidFill>
                <a:latin typeface="Arial"/>
              </a:rPr>
              <a:t>NOVÉ ZÁVĚREČNÉ ZKOUŠ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</a:rPr>
              <a:t>v oborech středního vzděl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</a:rPr>
              <a:t>s výučním li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400" spc="-1" strike="noStrike">
                <a:solidFill>
                  <a:srgbClr val="0070c0"/>
                </a:solidFill>
                <a:latin typeface="Arial"/>
              </a:rPr>
              <a:t>Romana Jezberov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mana.jezberova@nuov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93800" y="252360"/>
            <a:ext cx="6910200" cy="432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ak JZZZ budou využívat školy - vývoj IS NZ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6360" y="1476360"/>
            <a:ext cx="1008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Organizace a harmonogram tvorby JZZZ - </a:t>
            </a: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činnost je náročná -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2 zákl. et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Arial"/>
              </a:rPr>
              <a:t>1. Tvorba databáze témat </a:t>
            </a: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jednotlivých zkoušek říjen 2010 –15.leden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Arial"/>
              </a:rPr>
              <a:t>2. Dokončení – editace JZZZ do podoby pro školy, </a:t>
            </a: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formát PDF 2 var.- žáci/učitel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Arial"/>
              </a:rPr>
              <a:t> </a:t>
            </a: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15.leden až 28.únor 20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v každém případě musí JZZZ mít školy v </a:t>
            </a:r>
            <a:r>
              <a:rPr b="1" lang="cs-CZ" sz="3600" spc="-1" strike="noStrike">
                <a:solidFill>
                  <a:srgbClr val="0070c0"/>
                </a:solidFill>
                <a:latin typeface="Arial"/>
              </a:rPr>
              <a:t>březn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640" y="971640"/>
            <a:ext cx="10009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 algn="ctr">
              <a:spcBef>
                <a:spcPts val="11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3c8c93"/>
                </a:solidFill>
                <a:latin typeface="Arial"/>
              </a:rPr>
              <a:t>Děk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ctr">
              <a:spcBef>
                <a:spcPts val="10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000" spc="-1" strike="noStrike">
                <a:solidFill>
                  <a:srgbClr val="3c8c93"/>
                </a:solidFill>
                <a:latin typeface="Arial"/>
              </a:rPr>
              <a:t>editorům i autorům  </a:t>
            </a:r>
            <a:r>
              <a:rPr b="0" lang="cs-CZ" sz="4000" spc="-1" strike="noStrike">
                <a:solidFill>
                  <a:srgbClr val="3c8c93"/>
                </a:solidFill>
                <a:latin typeface="Arial"/>
              </a:rPr>
              <a:t>za prác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ctr">
              <a:spcBef>
                <a:spcPts val="10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000" spc="-1" strike="noStrike">
                <a:solidFill>
                  <a:srgbClr val="3c8c93"/>
                </a:solidFill>
                <a:latin typeface="Arial"/>
              </a:rPr>
              <a:t>školám</a:t>
            </a:r>
            <a:r>
              <a:rPr b="0" lang="cs-CZ" sz="4000" spc="-1" strike="noStrike">
                <a:solidFill>
                  <a:srgbClr val="3c8c93"/>
                </a:solidFill>
                <a:latin typeface="Arial"/>
              </a:rPr>
              <a:t> za trpělivost a sn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ctr">
              <a:spcBef>
                <a:spcPts val="10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000" spc="-1" strike="noStrike">
                <a:solidFill>
                  <a:srgbClr val="3c8c93"/>
                </a:solidFill>
                <a:latin typeface="Arial"/>
              </a:rPr>
              <a:t>odborníkům z praxe </a:t>
            </a:r>
            <a:r>
              <a:rPr b="0" lang="cs-CZ" sz="4000" spc="-1" strike="noStrike">
                <a:solidFill>
                  <a:srgbClr val="3c8c93"/>
                </a:solidFill>
                <a:latin typeface="Arial"/>
              </a:rPr>
              <a:t>(i HK) za pomo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ctr">
              <a:spcBef>
                <a:spcPts val="9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i="1" lang="cs-CZ" sz="3600" spc="-1" strike="noStrike">
                <a:solidFill>
                  <a:srgbClr val="3c8c93"/>
                </a:solidFill>
                <a:latin typeface="Arial"/>
              </a:rPr>
              <a:t>(vše je ve vývoji a často doplňujeme či měníme pokyny…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ctr">
              <a:spcBef>
                <a:spcPts val="9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i="1" lang="cs-CZ" sz="3600" spc="-1" strike="noStrike">
                <a:solidFill>
                  <a:srgbClr val="3c8c93"/>
                </a:solidFill>
                <a:latin typeface="Arial"/>
              </a:rPr>
              <a:t>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ctr">
              <a:spcBef>
                <a:spcPts val="9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i="1" lang="cs-CZ" sz="3600" spc="-1" strike="noStrike">
                <a:solidFill>
                  <a:srgbClr val="3c8c93"/>
                </a:solidFill>
                <a:latin typeface="Arial"/>
              </a:rPr>
              <a:t>Vám všem díky za pozorno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č reformujeme závěrečnou zkouš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8360" y="828360"/>
            <a:ext cx="964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reálná potřeba pr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nesrovnatelná úroveň ZZ v oboru konané na různých škol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podněty daly š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Pilotní ověřování JZZZ 2003-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Kvalita I 2005-2008, koncepce N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- verze 2008, oponentura, schváleno MŠ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od 8 JZZZ k 70 JZ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3800" y="252360"/>
            <a:ext cx="6910200" cy="432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č není NZZ kritizována jako M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2360" y="1547640"/>
            <a:ext cx="98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Příčiny: </a:t>
            </a:r>
            <a:r>
              <a:rPr b="1" i="1" lang="cs-CZ" sz="3600" spc="-1" strike="noStrike">
                <a:solidFill>
                  <a:srgbClr val="0070c0"/>
                </a:solidFill>
                <a:latin typeface="Arial"/>
              </a:rPr>
              <a:t>záporné</a:t>
            </a:r>
            <a:r>
              <a:rPr b="1" lang="cs-CZ" sz="3600" spc="-1" strike="noStrike">
                <a:solidFill>
                  <a:srgbClr val="0070c0"/>
                </a:solidFill>
                <a:latin typeface="Arial"/>
              </a:rPr>
              <a:t>/kladn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i="1" lang="cs-CZ" sz="4400" spc="-1" strike="noStrike">
                <a:solidFill>
                  <a:srgbClr val="0070c0"/>
                </a:solidFill>
                <a:latin typeface="Arial"/>
              </a:rPr>
              <a:t>-  malý zájem veřejnosti o U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+ aktivní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účast škol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na tvorbě 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+ spolupráce s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odborníky z pr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+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ulehčení práce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pedagogů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+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vývoj IS N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30360" y="252360"/>
            <a:ext cx="7056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o je na Nové závěrečné zkoušce novéh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22360" y="971280"/>
            <a:ext cx="986472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 algn="just"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Jednotné zadá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just">
              <a:spcBef>
                <a:spcPts val="11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pro každý obor středního vzdělání s výučním listem – podstata N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Struktura jednotného zadá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11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specifické potřeby daného obor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11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a požadavky rámcové struktury platné pro všechny obory kategorie H a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9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(E je jednodušší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3800" y="252360"/>
            <a:ext cx="6910200" cy="432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o je na Nové závěrečné zkoušce nového 2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2920" y="1620720"/>
            <a:ext cx="1015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Tvorba jednotného zad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autorský tým: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editor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tvorby JZZZ organizuje tvorbu JZZ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Autoři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zpracovávají části JZ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Odborník z praxe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– požadavky TP na výkon profe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(šk. r. 2009/2010 50 editorů, 26 ext. a 24 int. - z NÚ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3800" y="252360"/>
            <a:ext cx="6910200" cy="432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o je na Nové závěrečné zkoušce nového 3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2920" y="1692000"/>
            <a:ext cx="1015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Kvalifikační standard -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obory H ve všech oborech,obory E - kde KS existuj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možnost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uplatnění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 výkazu odborných kompetencí ž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(v koncepci NZZ inovované pojetí, dobrovolné využívání školou – ředitel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Akcent přenesen na souvislost NZZ se zámě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a výsledky ECV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3800" y="252360"/>
            <a:ext cx="6910200" cy="432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o je na Nové závěrečné zkoušce nového 4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0360" y="1620720"/>
            <a:ext cx="993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Pojetí závěrečné zkouš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a jednotlivých zkouš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Praktický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charakter závěrečné zkouš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Komplexní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pojetí témat (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Možnost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propojení obsahu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témat písemné, praktické, úst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3800" y="252360"/>
            <a:ext cx="6910200" cy="432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aké změny jsou v tomto školním ro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77640" y="1476000"/>
            <a:ext cx="1000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2010/2011 nově – tvorba JZZZ pro obory kategorie E 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– často žáci S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Obecný přehled ze světa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- aktualizace, tvorba rovněž pro obory 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H 35 otázek, E 30 jednoduchý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Samostatná odborn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Podrobné rozpracování podkladů, obsah, organizace,pokyny pro žáky apod.  - </a:t>
            </a:r>
            <a:r>
              <a:rPr b="0" lang="cs-CZ" sz="4000" spc="-1" strike="noStrike">
                <a:solidFill>
                  <a:srgbClr val="0070c0"/>
                </a:solidFill>
                <a:latin typeface="Arial"/>
              </a:rPr>
              <a:t>jen pro 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93800" y="252360"/>
            <a:ext cx="6910200" cy="432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aké změny jsou v tomto školním roce 2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6360" y="1476360"/>
            <a:ext cx="10080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</a:rPr>
              <a:t>Vztah jednotného zadání ke stávající školské legislativě </a:t>
            </a: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např. výběr témat písemné z.; doba písemné z.; využití SOP; plošné zavedení JZZZ , bezpečnost JZ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00"/>
              </a:spcBef>
              <a:buClr>
                <a:srgbClr val="0081c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Verdana"/>
              </a:rPr>
              <a:t>Řešení školní části 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JZZZ je standard, je úplné, škola může jen doplňovat nebo nahradit to, co je povolen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</a:rPr>
              <a:t>3 možnosti pro ŠČZZ- 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délka PZ, nahrazení části tématu, školní téma S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2:12:55Z</dcterms:created>
  <dc:creator>hana.husakova</dc:creator>
  <dc:description/>
  <dc:language>en-US</dc:language>
  <cp:lastModifiedBy>romana.jezberova</cp:lastModifiedBy>
  <dcterms:modified xsi:type="dcterms:W3CDTF">2010-12-07T08:47:43Z</dcterms:modified>
  <cp:revision>33</cp:revision>
  <dc:subject/>
  <dc:title>Snímek 1</dc:title>
</cp:coreProperties>
</file>